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gif" ContentType="image/gif"/>
  <Override PartName="/ppt/media/image13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0224-FFE1-4E6F-B529-A83444F7BFF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Работа с бумаг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Тех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"Оригам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898A-FEDC-496F-A086-7E576458678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5. Для изготовления туловища собаки возьми квадратный лист бумаги,  сложи его по диагонали и развер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7693-CFAC-4444-8228-C43EA00B8D8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6. Сложи внутрь уго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956D-6D2E-464E-A63C-F56BF63C090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7. Загни углы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68CC-BFCE-452B-BC4D-040BD6AA0CD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8. Склей детали. Получилась собака. Она может быть весёлой или серьёзной. Для этого собаку можно украсить, приклеить ей глаза, нос и язык, в общем, дать волю фант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99CF-3AD9-471C-B1E7-BDE3A2310D5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олодец! Открытка готов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004E-9C83-4BCE-88CD-95045D53B36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Используемые Интернет-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50EA-8B8A-40B4-B108-2A044E42DD6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Ориг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яп., букв.: «сложенная бумага») 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е искусство складывания фигур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бумаги. Искусство оригами своими корнями уходит в древний Кита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и была открыта бум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74FD-8719-41F8-8CCA-2D0A1DDB487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993300"/>
                </a:solidFill>
                <a:latin typeface="Arial"/>
                <a:ea typeface="Arial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Скажите, почему мой др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Спит без подушки, ест без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Зимой без валенок гуля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А если рад - хвостом виля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EF5D-D9F4-4EF5-8047-16BC0299348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3300"/>
                </a:solidFill>
                <a:latin typeface="Georgia"/>
              </a:rPr>
              <a:t>Пословицы и погов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ropisi"/>
              </a:rPr>
              <a:t>Собака - друг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ropisi"/>
              </a:rPr>
              <a:t>Собака  лает, ветер  нос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AD71-B2E3-4F2A-A444-A8E7BD4EF33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лан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Изготовь детали апп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Приклей детали к основе откры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Оформи открытку 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8E58-CAED-47D4-A729-3E89D5A8018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Для изготовления головы возьми квадрат из цветной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A8D5-9E7C-4AC6-AFC3-819477A72A9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Положи квадрат белой стороной кверху и перегни его по диагон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EDC2-610E-4D98-8256-80B2D3F73B4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Загни  правый и левый верхние углы. Как ты уже догадался, это будут уши нашей соба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11E8-BEA4-4217-AC5D-6409CBE1A7C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4. Полностью раскрой ушки и загни нижний угол заготовки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9F39-249E-42DD-B124-81E207F2941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D448-F88B-4A0C-8A07-27E6CF69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667F-3368-4EDA-A977-E8477F9E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45E3-CDAE-418B-88FB-9E74DF84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4421-5337-47E7-BA38-94A61063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4495-77A3-4328-A165-DC5EE259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A687-0D6A-47EB-A21D-477F8A63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EDAB-9D4A-4987-BACE-4950033A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20B8-9B94-4C53-9E55-87A1C7ED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3B5-1243-4469-AEA9-43557613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F15-24E2-4865-B0FA-38B21AA8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722-25DB-4BD9-BAFC-CB11BD44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EEF9-654F-46B3-A9E7-F468BA8E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4069-FC13-459E-8EF3-60FD311483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042920" y="1197000"/>
            <a:ext cx="6769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Работа с бумаго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Техни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"Оригами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2050920" y="3789360"/>
            <a:ext cx="496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50000">
                      <a:srgbClr val="008000"/>
                    </a:gs>
                    <a:gs pos="100000">
                      <a:srgbClr val="00cc99"/>
                    </a:gs>
                  </a:gsLst>
                  <a:lin ang="5400000"/>
                </a:gradFill>
                <a:latin typeface="Arial"/>
              </a:rPr>
              <a:t>                             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50000">
                    <a:srgbClr val="008000"/>
                  </a:gs>
                  <a:gs pos="100000">
                    <a:srgbClr val="00cc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484360" y="4365720"/>
            <a:ext cx="37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Демьянова 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Елена   Юр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2916360" y="551664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учитель начальных классов</a:t>
            </a:r>
            <a:endParaRPr b="0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МОУ СОШ №1 г. Тверь</a:t>
            </a:r>
            <a:endParaRPr b="0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2" descr="ре"/>
          <p:cNvPicPr/>
          <p:nvPr/>
        </p:nvPicPr>
        <p:blipFill>
          <a:blip r:embed="rId1"/>
          <a:stretch/>
        </p:blipFill>
        <p:spPr>
          <a:xfrm>
            <a:off x="3027240" y="1981080"/>
            <a:ext cx="308952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5. Для изготовления туловища собаки возьми квадратный лист бумаги,  сложи его по диагонали и развер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0"/>
          <p:cNvSpPr/>
          <p:nvPr/>
        </p:nvSpPr>
        <p:spPr>
          <a:xfrm rot="2659200">
            <a:off x="4787640" y="3500280"/>
            <a:ext cx="344520" cy="801720"/>
          </a:xfrm>
          <a:custGeom>
            <a:avLst/>
            <a:gdLst>
              <a:gd name="textAreaLeft" fmla="*/ 46080 w 344520"/>
              <a:gd name="textAreaRight" fmla="*/ 298440 w 344520"/>
              <a:gd name="textAreaTop" fmla="*/ 140040 h 801720"/>
              <a:gd name="textAreaBottom" fmla="*/ 581400 h 80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6" descr="спа"/>
          <p:cNvPicPr/>
          <p:nvPr/>
        </p:nvPicPr>
        <p:blipFill>
          <a:blip r:embed="rId1"/>
          <a:stretch/>
        </p:blipFill>
        <p:spPr>
          <a:xfrm>
            <a:off x="826920" y="1700280"/>
            <a:ext cx="308484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6. Сложи внутрь угол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7"/>
          <p:cNvSpPr/>
          <p:nvPr/>
        </p:nvSpPr>
        <p:spPr>
          <a:xfrm rot="14988600">
            <a:off x="2993040" y="4936320"/>
            <a:ext cx="504720" cy="658800"/>
          </a:xfrm>
          <a:custGeom>
            <a:avLst/>
            <a:gdLst>
              <a:gd name="textAreaLeft" fmla="*/ 67320 w 504720"/>
              <a:gd name="textAreaRight" fmla="*/ 437400 w 504720"/>
              <a:gd name="textAreaTop" fmla="*/ 115200 h 658800"/>
              <a:gd name="textAreaBottom" fmla="*/ 477720 h 65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329840" y="6021360"/>
            <a:ext cx="68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Загни нижний угол заготовки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0" descr="пр"/>
          <p:cNvPicPr/>
          <p:nvPr/>
        </p:nvPicPr>
        <p:blipFill>
          <a:blip r:embed="rId2"/>
          <a:stretch/>
        </p:blipFill>
        <p:spPr>
          <a:xfrm>
            <a:off x="5076720" y="170028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7. Загни углы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3419640" y="3284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9" descr="а"/>
          <p:cNvPicPr/>
          <p:nvPr/>
        </p:nvPicPr>
        <p:blipFill>
          <a:blip r:embed="rId1"/>
          <a:stretch/>
        </p:blipFill>
        <p:spPr>
          <a:xfrm>
            <a:off x="3132000" y="1844640"/>
            <a:ext cx="308952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8. Склей детали. Получилась собака. Она может быть весёлой или серьёзной. Для этого собаку можно украсить, приклеить ей глаза, нос и язык, в общем, дать волю фантаз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Молодец! Открытка готова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9" descr="на сайт"/>
          <p:cNvPicPr/>
          <p:nvPr/>
        </p:nvPicPr>
        <p:blipFill>
          <a:blip r:embed="rId1"/>
          <a:stretch/>
        </p:blipFill>
        <p:spPr>
          <a:xfrm>
            <a:off x="3132000" y="1981080"/>
            <a:ext cx="288000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Times New Roman"/>
              </a:rPr>
              <a:t>Используемые 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76280" cy="466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3719880" y="41497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248040" y="3213000"/>
            <a:ext cx="70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Загадка:  http://www.dogster.ru/cicero/humor/1027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49480" y="235728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словицы: http://www.doggies.ru/articl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WordArt 10"/>
          <p:cNvSpPr txBox="1"/>
          <p:nvPr/>
        </p:nvSpPr>
        <p:spPr>
          <a:xfrm>
            <a:off x="2771640" y="4437000"/>
            <a:ext cx="367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Презентацию подготовила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Демьянова Елена Юрьевна,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учитель начальных классов 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МОУ СОШ №1 г. Твери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 rot="1607400">
            <a:off x="6372360" y="2060280"/>
            <a:ext cx="2412720" cy="172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3564000" y="479736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1084pic"/>
          <p:cNvPicPr/>
          <p:nvPr/>
        </p:nvPicPr>
        <p:blipFill>
          <a:blip r:embed="rId3"/>
          <a:stretch/>
        </p:blipFill>
        <p:spPr>
          <a:xfrm>
            <a:off x="3851280" y="2781360"/>
            <a:ext cx="1944720" cy="1882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6588000" y="0"/>
            <a:ext cx="2556000" cy="2063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коробка"/>
          <p:cNvPicPr/>
          <p:nvPr/>
        </p:nvPicPr>
        <p:blipFill>
          <a:blip r:embed="rId5"/>
          <a:stretch/>
        </p:blipFill>
        <p:spPr>
          <a:xfrm rot="20893200">
            <a:off x="1979280" y="2852280"/>
            <a:ext cx="1646280" cy="170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6"/>
          <a:stretch/>
        </p:blipFill>
        <p:spPr>
          <a:xfrm rot="1903800">
            <a:off x="5796000" y="4076640"/>
            <a:ext cx="2979720" cy="19814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395280" y="549360"/>
            <a:ext cx="711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Ориг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яп., букв.: «сложенная бумага») 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евнее искусство складывания фигур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бумаги. Искусство оригами своими корнями уходит в древний Кита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и была открыта бума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" descr="2087pic"/>
          <p:cNvPicPr/>
          <p:nvPr/>
        </p:nvPicPr>
        <p:blipFill>
          <a:blip r:embed="rId7"/>
          <a:stretch/>
        </p:blipFill>
        <p:spPr>
          <a:xfrm rot="19031400">
            <a:off x="610920" y="4508280"/>
            <a:ext cx="1834920" cy="19159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755640" y="476280"/>
            <a:ext cx="446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гадай загадку</a:t>
            </a:r>
            <a:endParaRPr b="1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1692360" y="1989000"/>
            <a:ext cx="561816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кажите, почему мой друг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пит без подушки, ест без рук.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Зимой без валенок гуляет,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А если рад - хвостом виляет?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5" name="WordArt 6"/>
          <p:cNvSpPr txBox="1"/>
          <p:nvPr/>
        </p:nvSpPr>
        <p:spPr>
          <a:xfrm>
            <a:off x="4211640" y="5300640"/>
            <a:ext cx="4103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latin typeface="Propisi"/>
              </a:rPr>
              <a:t>Собака</a:t>
            </a:r>
            <a:endParaRPr b="0" i="1" lang="en-US" sz="24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latin typeface="Propisi"/>
              <a:ea typeface="Propis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1042920" y="620640"/>
            <a:ext cx="712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3300"/>
                </a:solidFill>
                <a:latin typeface="Georgia"/>
              </a:rPr>
              <a:t>Пословицы и поговорки</a:t>
            </a:r>
            <a:endParaRPr b="1" i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003300"/>
              </a:solidFill>
              <a:latin typeface="Georgia"/>
              <a:ea typeface="Georgia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826920" y="1916280"/>
            <a:ext cx="7417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Propisi"/>
              </a:rPr>
              <a:t>Собака - друг человека</a:t>
            </a:r>
            <a:endParaRPr b="1" lang="en-US" sz="40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Propisi"/>
              </a:rPr>
              <a:t>Собака  лает, ветер  носит</a:t>
            </a:r>
            <a:endParaRPr b="1" lang="en-US" sz="40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latin typeface="Propisi"/>
              <a:ea typeface="Propisi"/>
            </a:endParaRPr>
          </a:p>
        </p:txBody>
      </p:sp>
      <p:pic>
        <p:nvPicPr>
          <p:cNvPr id="71" name="Picture 6" descr="дай лапу"/>
          <p:cNvPicPr/>
          <p:nvPr/>
        </p:nvPicPr>
        <p:blipFill>
          <a:blip r:embed="rId1"/>
          <a:stretch/>
        </p:blipFill>
        <p:spPr>
          <a:xfrm>
            <a:off x="4067280" y="4005360"/>
            <a:ext cx="2106360" cy="21603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80808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Propisi"/>
              </a:rPr>
              <a:t>               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808080"/>
                  </a:gs>
                  <a:gs pos="100000">
                    <a:srgbClr val="ffff00"/>
                  </a:gs>
                </a:gsLst>
                <a:lin ang="5400000"/>
              </a:gradFill>
              <a:latin typeface="Propisi"/>
              <a:ea typeface="Propisi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84360" y="314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10920" y="1981080"/>
            <a:ext cx="828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                  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План рабо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1. Изготовь детали апплик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2. Приклей детали к основе откры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3. Оформи открытку с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1. Для изготовления головы возьми квадрат из цветной бума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3" descr="ап"/>
          <p:cNvPicPr/>
          <p:nvPr/>
        </p:nvPicPr>
        <p:blipFill>
          <a:blip r:embed="rId1"/>
          <a:stretch/>
        </p:blipFill>
        <p:spPr>
          <a:xfrm>
            <a:off x="2843280" y="2133720"/>
            <a:ext cx="3424320" cy="35161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2. Положи квадрат белой стороной кверху и перегни его по диагона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" descr="ре"/>
          <p:cNvPicPr/>
          <p:nvPr/>
        </p:nvPicPr>
        <p:blipFill>
          <a:blip r:embed="rId1"/>
          <a:stretch/>
        </p:blipFill>
        <p:spPr>
          <a:xfrm>
            <a:off x="1830240" y="1981080"/>
            <a:ext cx="5481720" cy="41148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3. Загни  правый и левый верхние углы. Как ты уже догадался, это будут уши нашей соба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" descr="ы"/>
          <p:cNvPicPr/>
          <p:nvPr/>
        </p:nvPicPr>
        <p:blipFill>
          <a:blip r:embed="rId1"/>
          <a:stretch/>
        </p:blipFill>
        <p:spPr>
          <a:xfrm>
            <a:off x="2190600" y="2023920"/>
            <a:ext cx="4762800" cy="40291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4. Полностью раскрой ушки и загни нижний угол заготовки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5" descr="вт"/>
          <p:cNvPicPr/>
          <p:nvPr/>
        </p:nvPicPr>
        <p:blipFill>
          <a:blip r:embed="rId1"/>
          <a:stretch/>
        </p:blipFill>
        <p:spPr>
          <a:xfrm>
            <a:off x="2190600" y="225252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8:32:45Z</dcterms:modified>
  <cp:revision>38</cp:revision>
  <dc:subject/>
  <dc:title>PowerPoint Presentation</dc:title>
</cp:coreProperties>
</file>